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C956-BEE5-44AE-AFE4-DC3460CC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51C1-CBF2-40FD-8670-6C63432F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3A08A-7F5A-4515-AB00-0B2D8001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0981-69F1-4951-B529-07EA0DA5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04D0-241C-488F-A3C4-70179E56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0372-24C8-4677-9F02-59FCFF5D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8611-B221-4A3D-AC6D-ECB8F0B2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66AE-45E9-46C5-9C12-A843A93D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A48C-AF42-44DB-A504-1094C8AA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E676-BB13-4ADF-9BC4-262256FC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5AE3-01E4-4B1E-A3B1-CB8EF4D8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6D82B-98C5-478D-867F-CF4ECB41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124B-9F74-4876-B66E-86EE1BA2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AA5F-00F8-41F6-B0F0-8DC9889E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73FC-1ADD-4882-ACF9-275E53C8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CF7D-6834-4992-9A8B-97469B62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5A67-0E55-4F69-B6FC-AD824310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20AE-A8C2-49B7-B840-F8780940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04A9-A70E-4AC6-8F96-5E944040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6E85-B25D-4775-B47B-9235B657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BFEB0-7775-4F73-B174-245BC5A8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31B5-3B44-4568-AF7F-CACC3AFA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186B-68B0-4888-9334-BF8EBA28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A7A2A-EADF-471E-841B-D3886D17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0905-58E1-4B86-9170-185DA5DA15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0E09-33E4-4D16-AE68-BE27A4626E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oastmaters.org/pdfs/top10.pdf" TargetMode="External"/><Relationship Id="rId2" Type="http://schemas.openxmlformats.org/officeDocument/2006/relationships/hyperlink" Target="http://www.microsoft.com/en-us/FX011887231033.aspx" TargetMode="External"/><Relationship Id="rId3" Type="http://schemas.openxmlformats.org/officeDocument/2006/relationships/hyperlink" Target="http://www.microsoft.com/en-us/FX011887151033.aspx" TargetMode="External"/><Relationship Id="rId4" Type="http://schemas.openxmlformats.org/officeDocument/2006/relationships/hyperlink" Target="http://www.americanheart.org/presenter.jhtml?identifier=3029015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How to Create and Deliver an Effective PowerPoint Presentation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689440" cy="356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sentation Ski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Maintain eye contact with audi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Use your voice effective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eak clear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eak with ex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Rehearse in adv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rove tim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ize distracting mannerisms and verbal fill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 Things To Walk Away With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PowerPoint should work with your message, not against 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Keep it simple; less is often more in graphics, design and wor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here is no substitute for strong presentation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s Consult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0 Tips for Successful Public Speaking”. Toastmasters International. 24 May 2006.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toastmaters.org/pdfs/top10.pd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kinson, Cliff. “Work confidently with your presentation slides”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crosoft. 20 May 2006.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microsoft.com/en-us/FX011887231033.asp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irardo, Linda. “Effective Seminar Presentations”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irardo, Linda et al. “The Medium Is Not Always the Message”. York Catholic District School Board, 200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kinson, Cliff. “3 rules for a great presentation”. Microsoft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0 May 2006.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.microsoft.com/en-us/FX011887151033.asp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meathers, H. “How To Create a Multi Media Presentation”. 200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ips for PowerPoint Presentations”. American Heart Association. 20 May 2006.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www.americanheart.org/presenter.jhtml?identifier=30290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owerPoint doesn’t kill presentations, people kill presentations.”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~Andrew Wahl, Canadian Busines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 Most Common Mistake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phics and special effects overshadow the cont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o much tex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er reads from sl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phics: Keep It Si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040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Graphics can support your message b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tracting audience inter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arifying id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mphasizing key po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Graphics should support― not overwhelm― your mess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not clutter slides with pic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 video clips short and to the poi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ize special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phics: Keep It Si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Simplify graphs, charts and dia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bar graphs and pie charts not tab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lace labels outside pie cha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ify scales on the X- and Y-ax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39272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: Keep It Si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Keep design consistent and visually appea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a slide templ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backgr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Use colours sparingly (2-3 max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consistent from slide to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not use red in any font or backgr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ontrast background and lettering for read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Graduated or textured backgrounds add inte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ding: Keep It Si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Abbreviate your mess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ullet points not sent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apitalize the first word only in bullet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CAPS INDICATES YOU ARE SHOU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Use no more than 2 different fo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Use large, easy to read font (24 pts. for main tex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ollow the 7 X 7 r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sentation Ski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Know your materi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now more about your material than you include in the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Don’t read from slid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bullet points as c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e the audience not the scre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ve a conversation with the audi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2920" y="155736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sentation Ski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Involve the audi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an attention grabber in the ope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k a ques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rvey the audi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lude personal stor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8:05:10Z</dcterms:created>
  <dc:creator>FL</dc:creator>
  <dc:description/>
  <dc:language>en-US</dc:language>
  <cp:lastModifiedBy>035169</cp:lastModifiedBy>
  <dcterms:modified xsi:type="dcterms:W3CDTF">2007-10-22T17:14:42Z</dcterms:modified>
  <cp:revision>13</cp:revision>
  <dc:subject/>
  <dc:title>  “PowerPoint doesn’t kill presentations, people kill presentations.”   ~Andrew Wahl, Canadian Business</dc:title>
</cp:coreProperties>
</file>